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55921"/>
        <c:axId val="93577543"/>
      </c:barChart>
      <c:catAx>
        <c:axId val="143559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77543"/>
        <c:crosses val="autoZero"/>
        <c:auto val="1"/>
        <c:lblAlgn val="ctr"/>
        <c:lblOffset val="100"/>
        <c:noMultiLvlLbl val="0"/>
      </c:catAx>
      <c:valAx>
        <c:axId val="93577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559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A064-CA85-40E5-B252-38A623C3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4BF6-4A2D-4957-BCB1-EE601FDC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F2B-17D5-4364-BB60-DEFB3D2B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88AE-5194-40A9-A576-DC926301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6BD4-BB84-4EAC-8C2A-3D67C0B0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6BE-8DC6-4070-81E3-4A0825C3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062-CD91-4355-B4D4-04FF8445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936E-4F20-42A9-A070-241090D0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C89-1785-4E8E-BCB1-36923DDD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4863-F157-4597-AD41-51CA12D3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C755-855D-459D-A136-1E09CF58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218-2B13-4AD2-AF52-60188221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4CF76-D352-4866-941D-A4B890FA37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