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21636"/>
        <c:axId val="97708828"/>
      </c:barChart>
      <c:catAx>
        <c:axId val="61921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08828"/>
        <c:crosses val="autoZero"/>
        <c:auto val="1"/>
        <c:lblAlgn val="ctr"/>
        <c:lblOffset val="100"/>
        <c:noMultiLvlLbl val="0"/>
      </c:catAx>
      <c:valAx>
        <c:axId val="9770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1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358-CCD4-41E8-BE76-7FD1EED6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54F-901D-4A98-93E1-C84A679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D22-9A13-4ADA-821C-C6BF4DEF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EF7-03C6-41D9-94E3-73A7CEA9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043-5049-4FC6-AD6C-0989F64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71A-EA4C-47C8-A49B-169E7BE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B8C-AD70-483B-93B4-89449CCF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320-962C-4EE8-9C3E-4CA6EC0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829-F4D2-4624-8AF2-9E91CD4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0DD-7D70-4AFA-B375-15F01A8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0AA-CA23-492D-B487-3D6D476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5E1-0324-4745-A5D9-B24FCA3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3AE0-AD40-45F9-9447-D83A70F5E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