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180238"/>
        <c:axId val="57069210"/>
      </c:barChart>
      <c:catAx>
        <c:axId val="391802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069210"/>
        <c:crosses val="autoZero"/>
        <c:auto val="1"/>
        <c:lblAlgn val="ctr"/>
        <c:lblOffset val="100"/>
        <c:noMultiLvlLbl val="0"/>
      </c:catAx>
      <c:valAx>
        <c:axId val="570692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1802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5402-C670-4F09-844E-3D1DBC848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015E-6B99-4BF2-8793-BC5CADF8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3A04-27E7-4E6A-8F44-AF856603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A479-EDA3-4505-A488-68E409FE6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470D-E5C5-4FC8-A9A7-4E86957A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67A3-4DF3-4340-86F8-876BDFE9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AAB0-4B6E-4CCD-B1AC-8E462A3F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E732-4628-4CF8-94AC-65EDB050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DB22-D5B2-4085-B204-85FEB712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582A-708A-484F-AD54-AC7DA1F9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D084-5F87-413A-907D-73E75D05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0488-9908-4FCD-8044-80EA3C15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06C984-AD91-4AFC-8A87-51BFF4DEA4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