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77094"/>
        <c:axId val="60161802"/>
      </c:barChart>
      <c:catAx>
        <c:axId val="88577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61802"/>
        <c:crosses val="autoZero"/>
        <c:auto val="1"/>
        <c:lblAlgn val="ctr"/>
        <c:lblOffset val="100"/>
        <c:noMultiLvlLbl val="0"/>
      </c:catAx>
      <c:valAx>
        <c:axId val="60161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77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8B4-6F81-4EDF-AD42-FB5821B5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B30-1D8B-4342-A6C8-238EAC24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A79-0941-4E1D-BD5C-DF712123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616-7764-4E27-A98C-B7AADE83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C64-EE06-4B81-80EF-C21DD15E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2F7-5F39-494C-9C94-31B3B72D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39C-42DD-4D1A-A46D-F2932A41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93A-F511-4948-A6E0-37EC0A8C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818-782A-4E17-9769-7B73B8AC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F89-6B27-40A0-828D-6D38FCA8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1CB-4057-49F9-9092-23ECEB59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2C0-9209-4F4A-8C7B-C9CD1DC4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351F1-7352-4B0F-8458-7C11A5419C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