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94047"/>
        <c:axId val="61682410"/>
      </c:barChart>
      <c:catAx>
        <c:axId val="92594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82410"/>
        <c:crosses val="autoZero"/>
        <c:auto val="1"/>
        <c:lblAlgn val="ctr"/>
        <c:lblOffset val="100"/>
        <c:noMultiLvlLbl val="0"/>
      </c:catAx>
      <c:valAx>
        <c:axId val="61682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94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82E-9970-402E-A272-00621B67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470-3918-436C-B5A3-CF3B3032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508-0825-48E4-B0E1-5ABD463F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FA0-7EDF-480B-A5BC-0FC9E6C5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1B8-ADAB-470E-99B9-3A2DCDF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A9E-9243-44D1-ABF3-937A4AC6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D94-6F41-46B9-A0A0-BE27C37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6BF-C190-4902-8414-5A09A03A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0F0-14A9-4A1E-9769-AC755B54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99F-0FA9-45E6-8F8D-B47D8B2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D9A-A5DB-4E7D-B9D6-C4EC321E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AB1-0983-4F5B-9CD0-C6B99AF7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42D93-6688-4BE9-9997-00AC10707B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