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722615"/>
        <c:axId val="38011879"/>
      </c:barChart>
      <c:catAx>
        <c:axId val="857226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11879"/>
        <c:crosses val="autoZero"/>
        <c:auto val="1"/>
        <c:lblAlgn val="ctr"/>
        <c:lblOffset val="100"/>
        <c:noMultiLvlLbl val="0"/>
      </c:catAx>
      <c:valAx>
        <c:axId val="380118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7226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88D1-5277-49DB-B7E6-C1F6AC596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58B0-0E47-4D7A-B2AC-856A90AB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15D4-FD62-488F-A687-34E9EDE3F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B180-0616-4073-B3BE-2E614D041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E86D-F7D5-4936-82E3-165139E6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5D19-7520-40FA-B135-C695FD64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EF5E-0C25-4A17-829B-D1DBFD82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24F7-FA93-4B49-9ABE-F8B7C2A5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C4D2-EF27-4277-93C5-FF75F6F7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8024-BAA5-4A42-AACB-4E49F501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8784-F9F6-4288-8C6D-62D3338B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4C08-4512-458E-9323-67C1E5E2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A56FF-7D62-4C9A-9B79-5C182932F1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