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565476"/>
        <c:axId val="76495672"/>
      </c:barChart>
      <c:catAx>
        <c:axId val="195654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95672"/>
        <c:crosses val="autoZero"/>
        <c:auto val="1"/>
        <c:lblAlgn val="ctr"/>
        <c:lblOffset val="100"/>
        <c:noMultiLvlLbl val="0"/>
      </c:catAx>
      <c:valAx>
        <c:axId val="764956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654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790A-2FBE-404B-8C7B-FE086830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72C9-F2C8-4CAA-A462-C5B4F977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7CC8-6D39-4C02-99A8-5EE1F9B8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F6CE-FCD9-4375-8A69-628B3ED4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43C2-2032-41C5-8F27-2B590D92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9D05-1016-444B-BF11-A58D049B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9537-3947-48DB-A482-12FB66F1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340-D33F-4562-86B3-AA852E8B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B66-0270-498F-A090-E9822A80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A26-54C0-4D5E-92AD-059A76CD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FC7C-8893-45B1-9E06-48CDE718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31AF-4F37-4C32-A7B8-ACD6B3D1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F4FF7-7927-4765-86E6-0DE378F02A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