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54340"/>
        <c:axId val="64930887"/>
      </c:barChart>
      <c:catAx>
        <c:axId val="88654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30887"/>
        <c:crosses val="autoZero"/>
        <c:auto val="1"/>
        <c:lblAlgn val="ctr"/>
        <c:lblOffset val="100"/>
        <c:noMultiLvlLbl val="0"/>
      </c:catAx>
      <c:valAx>
        <c:axId val="64930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54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E2F7-A4C0-47EF-AEFB-3114BEC6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405-BE31-401D-AFA1-61852356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11F-0B99-4011-A269-5486DB1B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0E4-BE8A-457B-9661-2A1BE5A2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FDE-A09C-49C5-A4B2-B24C5FEC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487-ED5F-4E92-9642-25B56D3D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5F7-3892-45AC-964C-6A072BDD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AD2-791E-440E-A4EA-B239B73F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62C-D675-4BFA-A084-2578024E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9D7-608B-4C96-8E5B-F7DFC3E5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AE2-BE88-4A38-9B38-0B2782F6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96C-8DC3-4264-9DF8-9F2B3B79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B8445-343E-410F-A71D-757FDF0767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