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56754"/>
        <c:axId val="33359007"/>
      </c:barChart>
      <c:catAx>
        <c:axId val="22856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59007"/>
        <c:crosses val="autoZero"/>
        <c:auto val="1"/>
        <c:lblAlgn val="ctr"/>
        <c:lblOffset val="100"/>
        <c:noMultiLvlLbl val="0"/>
      </c:catAx>
      <c:valAx>
        <c:axId val="33359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56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FF7-7C5F-43F2-AD68-3392F048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72C-0698-4CBD-A852-A9D3D70B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368-FAE2-4578-BCB0-2E22EBD3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1BD-BDEE-4D4E-B53E-5FCFBD7A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4AE-E40D-4BAA-B82C-0619CCC9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6B1-7477-46CA-B9E1-94D0D353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E93-0924-4D93-9AEA-CBC39D8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32F-C483-40E2-952C-D72E60B5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671-8FF1-4F2D-99CD-00E25C4B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426-E6D5-433F-899E-1A437ADE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CC7-C6CC-475C-8900-753A22ED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1A8-ED31-4FA8-9680-21091BE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B70D6-C8CB-4B8D-954B-753B9F3831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