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92327"/>
        <c:axId val="80035307"/>
      </c:barChart>
      <c:catAx>
        <c:axId val="687923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35307"/>
        <c:crosses val="autoZero"/>
        <c:auto val="1"/>
        <c:lblAlgn val="ctr"/>
        <c:lblOffset val="100"/>
        <c:noMultiLvlLbl val="0"/>
      </c:catAx>
      <c:valAx>
        <c:axId val="80035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923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6FC0-E812-4DA8-A7DE-4C3604EE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17BF-7BE4-477E-B835-091DD7F1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9170-F901-4F06-89E1-5BEE1428D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5BA4-D674-48DF-96D6-909AFBA4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47C8-C502-43C4-A1B2-7FD04813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E87A-F68B-45EA-B79B-10E6FA09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B84B-5DD8-40E2-B1A8-EFD7DB57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89EB-73AE-40A6-924C-8912FD7B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5061-44EB-4388-95FA-8C777701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EC0B-D242-4433-867A-6A1328F4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9101-09B1-44D5-9ACC-9D28C06A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6FBA-72CD-4F91-BD79-2783BA6F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8C588-96AD-445D-A40B-11E4146A52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