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21898"/>
        <c:axId val="17673229"/>
      </c:barChart>
      <c:catAx>
        <c:axId val="22821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73229"/>
        <c:crosses val="autoZero"/>
        <c:auto val="1"/>
        <c:lblAlgn val="ctr"/>
        <c:lblOffset val="100"/>
        <c:noMultiLvlLbl val="0"/>
      </c:catAx>
      <c:valAx>
        <c:axId val="1767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1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C3E-42BE-4FF7-8D79-5F036485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0C4-E79F-47CF-89D7-9A01B8A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0F6-CFFF-44A7-A10D-5FDEE5D8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8DC-3F6D-4BDD-B1A3-27302B22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77F-3F76-4D4C-897B-919F24EA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9E1-478E-4171-8A23-34857237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FD7-E6F7-4D2D-AFDA-9A8287F9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2D8-CF16-4BE2-B9C3-84F45CD5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71C-BC35-4262-B37D-10CB239F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5A9-100C-4462-B737-9459E64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80B-0EC4-4071-81B0-D0D4257C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767-0503-43B4-BF8E-27F2235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4F45A-061E-46D4-B87F-542A82BF1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