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41540"/>
        <c:axId val="62842429"/>
      </c:barChart>
      <c:catAx>
        <c:axId val="79941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42429"/>
        <c:crosses val="autoZero"/>
        <c:auto val="1"/>
        <c:lblAlgn val="ctr"/>
        <c:lblOffset val="100"/>
        <c:noMultiLvlLbl val="0"/>
      </c:catAx>
      <c:valAx>
        <c:axId val="62842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41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F4E-C24C-456F-B64D-0EA1C91C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CE4-B7A1-4740-8634-1B2B1665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36D-191C-4BAE-81B0-FADA832C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12D-BBD7-4590-99EA-F168AC43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3A7-97FA-4CD4-B267-E0CAF05B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C55-33AE-49E0-90E4-3A7353CA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752-EDFA-48DC-B523-C4BD2A32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F55-C7E1-49BA-9FA3-60C37E58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2DF-3B0A-4D1B-9088-EFA37BB3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934-2864-4226-9742-7B95F5B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456-2BF2-4450-96A8-DA70D5E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A186-7213-45AA-BA6D-6934A580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B4B2C-0263-4D7C-A0A9-5488084D7E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