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01162"/>
        <c:axId val="3666927"/>
      </c:barChart>
      <c:catAx>
        <c:axId val="25301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6927"/>
        <c:crosses val="autoZero"/>
        <c:auto val="1"/>
        <c:lblAlgn val="ctr"/>
        <c:lblOffset val="100"/>
        <c:noMultiLvlLbl val="0"/>
      </c:catAx>
      <c:valAx>
        <c:axId val="3666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01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404-0D50-4F08-8EB6-4FF19E0B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B7E-7B20-447F-876A-46A196F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563-E97E-4442-A5EE-B7E1F168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7A5-F19F-4064-B91F-0CED0DE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12B-1CA7-4A21-BD23-A14D004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B5F-E718-4183-8227-EFB7BB5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FFC-FB33-48AB-BFA0-01D6BB3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916-0170-4A7A-BA39-6929E1B6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274-8EA1-4C4B-A09D-38985188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28F-06D5-411A-A3CC-549C186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B0C-41B8-43B8-B020-1EAC785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FE0-A843-4FE9-92F9-7C04D28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803CB-A132-466D-85A6-B875E3946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