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3573"/>
        <c:axId val="47003858"/>
      </c:barChart>
      <c:catAx>
        <c:axId val="20393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03858"/>
        <c:crosses val="autoZero"/>
        <c:auto val="1"/>
        <c:lblAlgn val="ctr"/>
        <c:lblOffset val="100"/>
        <c:noMultiLvlLbl val="0"/>
      </c:catAx>
      <c:valAx>
        <c:axId val="47003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3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CEF-B3E2-4A63-A099-1ACE12BF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408-51AB-4C96-8AE7-7007AB56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C2F-3D36-4D3C-A1DB-CE4B38B0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78F-BDAE-4166-95CE-E4AEE9E0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432-334B-46A2-9AE0-CDD60113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A82-B3C8-4A20-9A24-2107FF9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00A-E339-469B-9DD5-4127521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C7F-5D79-4DEA-8EBF-F17B126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A8A-8ABC-46AD-A609-1FECB8A2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5B7-F887-4611-BB51-EA786D1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A94-B59D-4175-8ED3-30D448F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BE2-0942-48D0-BF26-D14460C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E5582-8F16-4194-8594-5254B7A74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