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72696"/>
        <c:axId val="44354544"/>
      </c:barChart>
      <c:catAx>
        <c:axId val="13272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54544"/>
        <c:crosses val="autoZero"/>
        <c:auto val="1"/>
        <c:lblAlgn val="ctr"/>
        <c:lblOffset val="100"/>
        <c:noMultiLvlLbl val="0"/>
      </c:catAx>
      <c:valAx>
        <c:axId val="44354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72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108-D9DC-447B-B3EA-27E02BDE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0CC-84C3-4D72-BF88-4D7FA3B1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6D5-6EA4-4AA3-ADAB-93D28018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E70-BB62-46B7-BF99-853CDFDA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40F-05BD-4EFA-93B7-CDF7217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3EC-00E1-4987-9D2E-B89D4B2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6B9-E0BD-4B0F-9FE0-8C2D5E6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10F-92E3-47F8-A2E9-3ED4F70E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202-05C4-49FB-ABCD-248E7113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124-5013-483F-9589-851DDC2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CD7-AF39-49F9-B862-8B834C2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846-8C79-41E5-B9D4-2C7973BB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5A42-5A2D-4445-9D40-015CC5A288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