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84180"/>
        <c:axId val="26314703"/>
      </c:barChart>
      <c:catAx>
        <c:axId val="87284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14703"/>
        <c:crosses val="autoZero"/>
        <c:auto val="1"/>
        <c:lblAlgn val="ctr"/>
        <c:lblOffset val="100"/>
        <c:noMultiLvlLbl val="0"/>
      </c:catAx>
      <c:valAx>
        <c:axId val="26314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84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88F-9998-4235-9C70-75B81BCC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719-C513-482C-8856-6E4BC2B2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6E7-8599-4F3F-B8BC-840DFFA7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B98-6E74-4291-ABDE-8D553638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C43-91A3-4C61-AD38-AB06CBA4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F65-3BB2-458C-ABA0-E3164733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741-7C26-4945-9B0B-1A652BBC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51E-0E65-4697-A24A-93ACC7B8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F3F-9491-4C39-935C-AF970362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73C-F693-46F5-B5F4-C24F68B0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A68-969F-4C72-9E8A-9E1B8D25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617-D326-4562-9BB9-C3487539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13E87-07DD-481F-AC7F-C32B001484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