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47835"/>
        <c:axId val="85669960"/>
      </c:barChart>
      <c:catAx>
        <c:axId val="84347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69960"/>
        <c:crosses val="autoZero"/>
        <c:auto val="1"/>
        <c:lblAlgn val="ctr"/>
        <c:lblOffset val="100"/>
        <c:noMultiLvlLbl val="0"/>
      </c:catAx>
      <c:valAx>
        <c:axId val="85669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47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34D-B4E6-4139-B148-B4A15F45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B42-74B6-4023-B169-A3528AD4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90B-51AF-4636-AF32-D28691B1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BE8-D8EB-4767-BD93-44F67BCA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F6C-56A9-451B-AB57-D687F22A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14A-CB1E-4C83-BB4E-11F0D4A1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FFE-E977-42F0-85F7-2D1D2398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FD3-F34E-4F45-A55C-2C3C4E3F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B15-23E7-420F-A2FB-38C913F7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808-CB38-4566-81D1-2C15F08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C86-7342-49BE-B0C7-2EC52AC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7D9-73FC-46F2-B1CC-E659BDB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AA744-8AB7-4B7C-B7E5-E442318D23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