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34171"/>
        <c:axId val="41305225"/>
      </c:barChart>
      <c:catAx>
        <c:axId val="39734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05225"/>
        <c:crosses val="autoZero"/>
        <c:auto val="1"/>
        <c:lblAlgn val="ctr"/>
        <c:lblOffset val="100"/>
        <c:noMultiLvlLbl val="0"/>
      </c:catAx>
      <c:valAx>
        <c:axId val="41305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34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F95-661B-4757-99EE-2FD3FB3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682-9AEA-4A4B-8A30-1B4A9878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D8A-FFD2-47CB-9283-8A6F8498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5DE-99EE-4ABF-BC4C-00628BCF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62F-CF35-4CE0-A3ED-B9EFB67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78E-F452-472B-A3A3-DD98E545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736-7CAB-4712-9DAF-BA2B3DE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C93-11A9-443E-AEE3-ACB5A75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5D9-D531-4BEC-9AC2-D0FC905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063-91A1-4854-A26A-AF8C416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704-9D33-4964-BEC1-B41FF86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7F2-D523-46EA-85B7-7751DA8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D1C5E-F285-4C12-9F1E-A2F441365F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