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18436"/>
        <c:axId val="76021755"/>
      </c:barChart>
      <c:catAx>
        <c:axId val="89818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21755"/>
        <c:crosses val="autoZero"/>
        <c:auto val="1"/>
        <c:lblAlgn val="ctr"/>
        <c:lblOffset val="100"/>
        <c:noMultiLvlLbl val="0"/>
      </c:catAx>
      <c:valAx>
        <c:axId val="76021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18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7E0-6AB6-4939-805E-E95C7095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AD4-9EA1-4D42-9D15-A8E8849E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9C5-C538-4D5B-BEE1-D82FAA2D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2F9-D0FA-44F4-A8F6-1F616C7B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082-D724-4272-8225-C4E42293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454-62F2-4747-B0E6-E80CE449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D31-40F8-498E-AC30-7AA67FFB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6B4-312E-4F65-94EA-F54B76C3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509-5EFF-4C4B-BAE9-4BA3CB9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335-3372-4296-B0D9-2077B78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74C-8E42-477D-A93D-6F0548F2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6BC-AEFC-4600-A429-EE18C3D5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76E4A-AF32-4F83-8618-F30E6843BD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