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2844"/>
        <c:axId val="61934771"/>
      </c:barChart>
      <c:catAx>
        <c:axId val="33228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34771"/>
        <c:crosses val="autoZero"/>
        <c:auto val="1"/>
        <c:lblAlgn val="ctr"/>
        <c:lblOffset val="100"/>
        <c:noMultiLvlLbl val="0"/>
      </c:catAx>
      <c:valAx>
        <c:axId val="619347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28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35F-73CA-467D-8CDC-68564CFF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65D-02AF-4ECF-933C-44A42FC4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4B7F-67F8-4638-921E-1E78793D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E55-5DBF-4B98-B975-8A241EE1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5F17-C76F-4A9A-9E25-3E03C819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9F1-44EF-4B61-8442-5DEDEDE4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4E8D-9128-4053-849E-F2B15FA2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96FA-CF66-4E72-A60F-61C56890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2012-A401-4A3A-B7B9-DEE12B55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871E-43C5-40C4-A878-E9DEA3EA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968-7AE5-447B-A416-35B65610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8E8E-6CC1-4862-8EE2-A6F68762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6FF6C-17E5-4C20-9C93-3333FECDAB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