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8877764"/>
        <c:axId val="57005222"/>
      </c:barChart>
      <c:catAx>
        <c:axId val="7887776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005222"/>
        <c:crosses val="autoZero"/>
        <c:auto val="1"/>
        <c:lblAlgn val="ctr"/>
        <c:lblOffset val="100"/>
        <c:noMultiLvlLbl val="0"/>
      </c:catAx>
      <c:valAx>
        <c:axId val="5700522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87776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77F59-F138-4FDF-AE7C-7F70882A8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F6555-58A1-44C3-88E1-3935609FE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7E8A9-0640-4337-BCAB-FF1295404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7FEFB-DFD7-4F90-9572-E130FC1CC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4C390-6903-4A40-BD1F-04CFAE46B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18232-27E3-4F45-A555-9197ED104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F11FC-1897-433A-AC85-C31CE8A45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95C09-8E1D-4980-A8C3-5EA297FC7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C6ACE-72BB-49B8-82B6-703925FD5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0A245-EA23-4364-B131-8C1108C42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B9280-D912-43F8-A9D5-0ADC3BB22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AFFAF-D7AB-4D51-81AF-1C5498DA9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907FB7-6B2C-4F72-A0B0-887DF7D0AF3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