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24305"/>
        <c:axId val="74661096"/>
      </c:barChart>
      <c:catAx>
        <c:axId val="50224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61096"/>
        <c:crosses val="autoZero"/>
        <c:auto val="1"/>
        <c:lblAlgn val="ctr"/>
        <c:lblOffset val="100"/>
        <c:noMultiLvlLbl val="0"/>
      </c:catAx>
      <c:valAx>
        <c:axId val="74661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24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80F-EA98-4378-A248-FD670457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3A1-F938-4C68-B27D-018ACB61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B5F-1E38-40CC-A798-1365F4FF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C52-951C-41D9-B2B5-2928F22A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9E7-748D-40AA-A708-5ADCC718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19E-1802-4260-9153-B6025946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A8F-F693-414B-96F3-603F827D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F79-5A09-4BB5-BB78-179A5346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D5F-F5B1-4E15-8E05-C4E43812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48A-26E5-490A-B65F-295975C5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CBD-00FB-4D79-9739-3ABD407D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C2D-B6EE-46F2-ACF3-98E10242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E24B4-9865-4B8B-A23C-A69D73CAD6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